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ED33-E889-4D29-8799-6A40CDA59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1B1C-8194-470D-9D51-821414A6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90D0-07A6-44FE-B17D-AB06DF6B0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10A9-FF8E-4728-BEFE-8712A6D7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CC2A-A00B-4488-84CD-37A6150C6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E19E-FE86-47C7-A0E6-F1BB7BFF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EC27-1312-42D4-BD6B-C4062C9B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9BA6-E361-4828-82A0-9C5FFC9D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1850-4AAA-44BF-B060-30923651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4CB4-5514-4669-9721-EB0CBD01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89CE-4F91-43EB-B74E-E4024A50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677B-5C46-4470-B43D-5C5CBD42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1D5E-AD31-43BA-BFC3-8FDD76F1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FF85-7BA9-460B-A280-A87EB290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879D-2C45-42F4-A0C7-A0F37666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58A0-C4BD-49A9-9932-3299E6769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94CA-D84C-4036-8BEF-330154D9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B09A-7066-4C85-9AD9-FEDEF61F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C50B-BE08-40F7-9F42-BE7B9D2A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F53D-B53A-4AB8-AA4B-73C06987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BBD4-825B-4A44-AA5D-D92688D5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47DE-4D1C-4613-9111-93FFBAB4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C8E3-D848-4D05-BB9E-033587D5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9DD8-BF48-4B2C-B733-3CB1F3A5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B16A-0126-4424-842F-A1D61ED9C422}" type="slidenum">
              <a:rPr b="0" lang="ar-SA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9398-99DF-4ED1-8D64-A059A275BC93}" type="slidenum">
              <a:rPr b="0" lang="ar-SA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195640" y="907920"/>
            <a:ext cx="5443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042920" y="1504800"/>
            <a:ext cx="727416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411280" y="765000"/>
            <a:ext cx="4713480" cy="525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55640" y="1703520"/>
            <a:ext cx="792000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7690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848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700360" y="981000"/>
            <a:ext cx="46450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619280" y="1014480"/>
            <a:ext cx="648180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77708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9T17:37:46Z</dcterms:created>
  <dc:creator>أجــك للـحــاسبـات  AGC 4 C</dc:creator>
  <dc:description/>
  <dc:language>en-US</dc:language>
  <cp:lastModifiedBy>tahir</cp:lastModifiedBy>
  <dcterms:modified xsi:type="dcterms:W3CDTF">2006-02-07T12:50:07Z</dcterms:modified>
  <cp:revision>28</cp:revision>
  <dc:subject/>
  <dc:title>عرض تقديمي من PowerPoint</dc:title>
</cp:coreProperties>
</file>